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93F0-2EB9-4AE5-B5E6-F5E9F8CF0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CD79-22CC-4C43-8512-AFD66D575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5C00-2C93-401B-9D9D-B5EFCA7C5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7C65-C21C-4DDC-AFB3-3FBF8F2E1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C879-6A12-44EA-A12B-462F58CDF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A5DA-E89A-4931-8F4E-A1027FA00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6489-D0BB-43F0-8A93-E98F64AE1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EBDA-A13C-4A79-9780-959E5627A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7D8C-65AC-414A-B724-53C89F316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BDD9-474A-4703-8A84-3B4D0DB7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9CF6-CE82-45D1-A1B3-2F25308B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DCF3-861C-47AC-89CB-77A3CB8C8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04920" y="228600"/>
            <a:ext cx="8610480" cy="64008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marL="286560" indent="-28656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23832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A721D7-0B6E-42FF-8A34-0C07808C74D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common-lisp.net/project/elephant" TargetMode="External"/><Relationship Id="rId2" Type="http://schemas.openxmlformats.org/officeDocument/2006/relationships/hyperlink" Target="http://trac.common-lisp.net/elephant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lephant:</a:t>
            </a:r>
            <a:br>
              <a:rPr sz="44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Persistent Metaobject Protocol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Object Oriented Database for Common Li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ersistent object protoco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persistent-metaclas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pecializes slot ac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ables persistent links between objec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ables automatic indexing of class instances by slot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fficient instance mapping by class, slot value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imple persistent collection AP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sistent sets (add, remove, fi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trees (insert, delete, pred, suc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0760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exible Indexing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1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n't optimize prematurely...index a slot when you need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nctional indexes provide lots of power; you can index objects by the values returned from arbitrary lisp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dexes can be ordered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1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y numeric qua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1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xical ordering of strings, symbols and pa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oad Platform Sup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27600" indent="-327600">
              <a:lnSpc>
                <a:spcPct val="11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ple Lisp environment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72520">
              <a:lnSpc>
                <a:spcPct val="11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BCL, ACL, LispWorks, OpenM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11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ple Platforms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72520">
              <a:lnSpc>
                <a:spcPct val="11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nux, Mac, 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72520">
              <a:lnSpc>
                <a:spcPct val="11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2 and 64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11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ple data store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72520">
              <a:lnSpc>
                <a:spcPct val="11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rkeley DB and CL-SQL (PostgreSQL and SQLi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72520">
              <a:lnSpc>
                <a:spcPct val="11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tive PostgreSQL and Lisp data store plan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0760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e Data St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erkeley DB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fast, not free for a website unless website is open-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ostgres via CLSQ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slower, liberal license, very solid and well-sup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QLite3 via CLSQ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simple, slowest, good for prototy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sy to migrate your application between them and more data stores are on the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0760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u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0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7160" indent="-317160">
              <a:lnSpc>
                <a:spcPct val="11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robust, long-term supported 1.0 release planned by end of summer ‘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63880">
              <a:lnSpc>
                <a:spcPct val="11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ferential integrity and full support for schema evolution (changing persistent class slot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63880">
              <a:lnSpc>
                <a:spcPct val="11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tter support for class hierarchies when index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63880">
              <a:lnSpc>
                <a:spcPct val="11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tter postgres usage with postmod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63880">
              <a:lnSpc>
                <a:spcPct val="11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bject query language (and compiler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7160" indent="-317160">
              <a:lnSpc>
                <a:spcPct val="11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t 1.0 features under consi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63880">
              <a:lnSpc>
                <a:spcPct val="11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tive LISP data st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63880">
              <a:lnSpc>
                <a:spcPct val="11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bject prevalence or Object management (DC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0760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ph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0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1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oin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1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common-lisp.net/project/eleph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1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vailable via CVS and tar archive (not asdf-installable tod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1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d feature requests and log bug reports to the TRAC project database at </a:t>
            </a: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trac.common-lisp.net/elephan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uth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1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iginal Elephant Implementation by Andrew Blumberg and Ben L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1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w Elephant Versions ‘05-’07 by Ian Eslick and Robert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1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umerous patches, features, examples and significant testing support from a growing user bas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14000"/>
              </a:lnSpc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09480" y="6854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1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ransactional 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1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pport for concurrent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1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vides the full ACID compliance of underlying data s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1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lephant is thread-safe; can share data store hand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dular Data Store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1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interface to disk storage is abstra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1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rrently supports Berkeley DB (direct/fast) and CL-SQL (general/slower) for flexible speed, license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1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ull support for migration between database inst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1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gration also provides compaction and garbag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untime database config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1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ass schema re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1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d/remove slot index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1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d/drop objects from the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14600" y="6094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00ff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609480"/>
            <a:ext cx="1523880" cy="838440"/>
          </a:xfrm>
          <a:prstGeom prst="roundRect">
            <a:avLst>
              <a:gd name="adj" fmla="val 16667"/>
            </a:avLst>
          </a:prstGeom>
          <a:solidFill>
            <a:srgbClr val="00ff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x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609480"/>
            <a:ext cx="1905120" cy="838440"/>
          </a:xfrm>
          <a:prstGeom prst="roundRect">
            <a:avLst>
              <a:gd name="adj" fmla="val 16667"/>
            </a:avLst>
          </a:prstGeom>
          <a:solidFill>
            <a:srgbClr val="00ff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ist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162920" y="571680"/>
            <a:ext cx="1218960" cy="171432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4320"/>
              <a:gd name="textAreaBottom" fmla="*/ 1654920 h 1714320"/>
            </a:gdLst>
            <a:ahLst/>
            <a:rect l="textAreaLeft" t="textAreaTop" r="textAreaRight" b="textAreaBottom"/>
            <a:pathLst>
              <a:path w="21600" h="30375">
                <a:moveTo>
                  <a:pt x="3600" y="0"/>
                </a:moveTo>
                <a:arcTo wR="3600" hR="3600" stAng="16200000" swAng="-5400000"/>
                <a:lnTo>
                  <a:pt x="0" y="26775"/>
                </a:lnTo>
                <a:arcTo wR="3600" hR="3600" stAng="10800000" swAng="-5400000"/>
                <a:lnTo>
                  <a:pt x="18000" y="303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1600200"/>
            <a:ext cx="5867280" cy="685800"/>
          </a:xfrm>
          <a:prstGeom prst="roundRect">
            <a:avLst>
              <a:gd name="adj" fmla="val 16667"/>
            </a:avLst>
          </a:prstGeom>
          <a:solidFill>
            <a:srgbClr val="00ff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174080" y="1546200"/>
            <a:ext cx="1203120" cy="152280"/>
          </a:xfrm>
          <a:prstGeom prst="rect">
            <a:avLst/>
          </a:prstGeom>
          <a:solidFill>
            <a:srgbClr val="00ff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272360" y="804960"/>
            <a:ext cx="104472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4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2438280"/>
            <a:ext cx="4191120" cy="457200"/>
          </a:xfrm>
          <a:prstGeom prst="roundRect">
            <a:avLst>
              <a:gd name="adj" fmla="val 16667"/>
            </a:avLst>
          </a:prstGeom>
          <a:solidFill>
            <a:srgbClr val="008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rial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00600" y="2438280"/>
            <a:ext cx="3581280" cy="457200"/>
          </a:xfrm>
          <a:prstGeom prst="roundRect">
            <a:avLst>
              <a:gd name="adj" fmla="val 16667"/>
            </a:avLst>
          </a:prstGeom>
          <a:solidFill>
            <a:srgbClr val="008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mutils/UF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600200"/>
            <a:ext cx="1905120" cy="685800"/>
          </a:xfrm>
          <a:prstGeom prst="roundRect">
            <a:avLst>
              <a:gd name="adj" fmla="val 16667"/>
            </a:avLst>
          </a:prstGeom>
          <a:solidFill>
            <a:srgbClr val="008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657600" y="-61920"/>
            <a:ext cx="264492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4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457200"/>
            <a:ext cx="7848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33720" y="2971800"/>
            <a:ext cx="541008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4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Store Interface and Ut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3733920"/>
            <a:ext cx="1587600" cy="838080"/>
          </a:xfrm>
          <a:prstGeom prst="roundRect">
            <a:avLst>
              <a:gd name="adj" fmla="val 16667"/>
            </a:avLst>
          </a:prstGeom>
          <a:solidFill>
            <a:srgbClr val="008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b-b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09680" y="3733920"/>
            <a:ext cx="2667240" cy="8380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b-postmod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733920"/>
            <a:ext cx="1676520" cy="838080"/>
          </a:xfrm>
          <a:prstGeom prst="roundRect">
            <a:avLst>
              <a:gd name="adj" fmla="val 16667"/>
            </a:avLst>
          </a:prstGeom>
          <a:solidFill>
            <a:srgbClr val="008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b-cl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58000" y="3733920"/>
            <a:ext cx="1511280" cy="838080"/>
          </a:xfrm>
          <a:prstGeom prst="roundRect">
            <a:avLst>
              <a:gd name="adj" fmla="val 16667"/>
            </a:avLst>
          </a:prstGeom>
          <a:solidFill>
            <a:srgbClr val="ff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b-li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90720" y="5029200"/>
            <a:ext cx="1828800" cy="838080"/>
          </a:xfrm>
          <a:prstGeom prst="roundRect">
            <a:avLst>
              <a:gd name="adj" fmla="val 16667"/>
            </a:avLst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rkeley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8120" y="5029200"/>
            <a:ext cx="2590560" cy="838080"/>
          </a:xfrm>
          <a:prstGeom prst="roundRect">
            <a:avLst>
              <a:gd name="adj" fmla="val 16667"/>
            </a:avLst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tgre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791320" y="5029200"/>
            <a:ext cx="1828800" cy="838080"/>
          </a:xfrm>
          <a:prstGeom prst="roundRect">
            <a:avLst>
              <a:gd name="adj" fmla="val 16667"/>
            </a:avLst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QL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95280" y="457200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81280" y="4572000"/>
            <a:ext cx="152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951080" y="4572000"/>
            <a:ext cx="460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24480" y="457200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3520" y="3048120"/>
            <a:ext cx="7848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00600"/>
            <a:ext cx="7848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581280"/>
            <a:ext cx="7848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38680" y="609480"/>
            <a:ext cx="1371600" cy="83844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6107040"/>
            <a:ext cx="838440" cy="152640"/>
          </a:xfrm>
          <a:prstGeom prst="rect">
            <a:avLst/>
          </a:prstGeom>
          <a:solidFill>
            <a:srgbClr val="00ff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586160" y="6019920"/>
            <a:ext cx="9928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ser 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6456240"/>
            <a:ext cx="838440" cy="152640"/>
          </a:xfrm>
          <a:prstGeom prst="rect">
            <a:avLst/>
          </a:prstGeom>
          <a:solidFill>
            <a:srgbClr val="008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86520" y="6369120"/>
            <a:ext cx="8575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ter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733920" y="6107040"/>
            <a:ext cx="838080" cy="1526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12760" y="6019920"/>
            <a:ext cx="18388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ady to integ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33920" y="6456240"/>
            <a:ext cx="838080" cy="152640"/>
          </a:xfrm>
          <a:prstGeom prst="rect">
            <a:avLst/>
          </a:prstGeom>
          <a:solidFill>
            <a:srgbClr val="ff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710600" y="6369120"/>
            <a:ext cx="586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B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781680" y="6095880"/>
            <a:ext cx="838440" cy="152640"/>
          </a:xfrm>
          <a:prstGeom prst="rect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758720" y="6008760"/>
            <a:ext cx="981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rd par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22160" y="1311120"/>
            <a:ext cx="705024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defpclass friend 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(name :accessor name :initarg :na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birthday :initarg :birthday :index t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&gt; #&lt;PERSISTENT-METACLASS FRIEN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make-instance 'friend :name "Carlos" :birthday (encode-birthday '(1 1 1972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make-instance 'friend :name "Adriana" :birthday (encode-birthday '(24 4 1980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make-instance 'friend :name "Zaid" :birthday (encode-birthday '(14 8 1976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NOW SOMEONE TRIPS OVER THE POWER CORD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Restart your LISP and d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get-instances-by-class 'frien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&gt; (#&lt;Carlos&gt; #&lt;Adriana&gt; #&lt;Zaid&gt;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map-class-index #'(format t " name: ~A birthdate: ~A~%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name friend) (birthday friend)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'friend ‘birthd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me: Carlos birthdate: (1 1 197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me: Zaid birthdate: (14 8 197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me: Adriana birthdate: (24 4 198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&gt; n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84040"/>
            <a:ext cx="7772400" cy="8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ersistent Cla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0760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istent 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27240" y="1152360"/>
            <a:ext cx="1839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0760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227240" y="1152360"/>
            <a:ext cx="1839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0760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istent 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27240" y="1152360"/>
            <a:ext cx="1839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0760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Tre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27240" y="1152360"/>
            <a:ext cx="1839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0760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ast Binary Object Serializ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1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numeric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ings, symbols and path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1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ll Unicode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sistent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ndard objects and str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rays, hash-tables and 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27240" y="1152360"/>
            <a:ext cx="1839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an Eslick</dc:creator>
  <dc:description/>
  <dc:language>en-US</dc:language>
  <cp:lastModifiedBy>Ian Eslick</cp:lastModifiedBy>
  <dcterms:modified xsi:type="dcterms:W3CDTF">2007-04-23T08:31:04Z</dcterms:modified>
  <cp:revision>4</cp:revision>
  <dc:subject/>
  <dc:title>PowerPoint Presentation</dc:title>
</cp:coreProperties>
</file>