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592-3457-485B-A489-CC5B1C39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56C-40AC-4C17-A171-0243FC61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CDEC-1608-40DD-A0FF-776865B7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BFB-5746-41D9-A67D-7B6D2CB0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C12-0593-4FC4-8D70-2017244F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49F-CA64-45A0-8B73-A9AC5041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CB4F-7050-48A9-8DF6-8160FEB9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27F-08A0-4D10-BC1A-063F55B3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2F4-AE69-4E48-820D-83CB7DBC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679-250A-4E59-BEA7-3A1577E6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3E0-1D5B-4480-9863-14CAF183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25BB-BB4D-44DC-8669-8184CB1E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89F5-D6B4-4442-ACBD-11B4928BB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685800"/>
            <a:ext cx="190512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1676520"/>
            <a:ext cx="4114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1981080"/>
            <a:ext cx="411480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1371600"/>
            <a:ext cx="4114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858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876920" y="1447560"/>
            <a:ext cx="15238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876920" y="1980720"/>
            <a:ext cx="152388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876920" y="2590560"/>
            <a:ext cx="15238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876920" y="3200040"/>
            <a:ext cx="1523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876920" y="388584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876920" y="449568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876920" y="510516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556272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743200"/>
            <a:ext cx="190476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4120" y="76212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B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400800" y="1295280"/>
            <a:ext cx="1752480" cy="4574160"/>
            <a:chOff x="6400800" y="1295280"/>
            <a:chExt cx="1752480" cy="4574160"/>
          </a:xfrm>
        </p:grpSpPr>
        <p:sp>
          <p:nvSpPr>
            <p:cNvPr id="57" name=""/>
            <p:cNvSpPr/>
            <p:nvPr/>
          </p:nvSpPr>
          <p:spPr>
            <a:xfrm>
              <a:off x="6400800" y="1295280"/>
              <a:ext cx="1752480" cy="45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62560" y="12952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77480" y="129528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39600" y="129528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00800" y="15998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77480" y="159984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39600" y="159984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00800" y="19047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7480" y="190476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39600" y="190476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00800" y="22096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480" y="220968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39600" y="220968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5142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77480" y="251424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39600" y="251424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8191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77480" y="281916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39600" y="281916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31240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77480" y="312408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239600" y="312408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800" y="34286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77480" y="342864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9600" y="342864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00800" y="37335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480" y="373356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39600" y="373356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0800" y="40384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77120" y="403848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39240" y="403848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00800" y="43430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77120" y="434304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39240" y="43430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0800" y="46479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77120" y="464796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39240" y="464796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00800" y="49528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77120" y="495288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39240" y="495288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0800" y="52574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77120" y="525744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39240" y="5257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00800" y="55623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556236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39240" y="556236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58672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124080" y="3276720"/>
            <a:ext cx="1752840" cy="2440440"/>
            <a:chOff x="3124080" y="3276720"/>
            <a:chExt cx="1752840" cy="2440440"/>
          </a:xfrm>
        </p:grpSpPr>
        <p:sp>
          <p:nvSpPr>
            <p:cNvPr id="105" name=""/>
            <p:cNvSpPr/>
            <p:nvPr/>
          </p:nvSpPr>
          <p:spPr>
            <a:xfrm>
              <a:off x="3124080" y="3276720"/>
              <a:ext cx="1752840" cy="2438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8480" y="327672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54120" y="3276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15520" y="327672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24080" y="358128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54120" y="3581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15520" y="358128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24080" y="38862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54120" y="3886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15520" y="388620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1911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54120" y="4191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15520" y="419112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24080" y="449568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54120" y="4495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5520" y="449568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8006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54120" y="480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15160" y="480060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24080" y="51055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4120" y="5105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15160" y="510552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541008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54120" y="5410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15160" y="541008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124440" y="2819520"/>
            <a:ext cx="18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: odd/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89480" y="5867280"/>
            <a:ext cx="2722680" cy="824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key-form ‘(lambda (k 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f (oddp (val v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lues t (log (val v) 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lues nil nil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21932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1219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920" y="1219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4600" y="121932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523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3920" y="1523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4240" y="152388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828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3920" y="1828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4240" y="182880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920" y="7621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: mod5 *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0840" y="2438280"/>
            <a:ext cx="2577960" cy="824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key-form ‘(lambda (k 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f (= 0 (mod (val v)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lues t (* 2 (val v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lues nil nil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3:24:50Z</dcterms:created>
  <dc:creator>Ian Eslick</dc:creator>
  <dc:description/>
  <dc:language>en-US</dc:language>
  <cp:lastModifiedBy>Ian Eslick</cp:lastModifiedBy>
  <dcterms:modified xsi:type="dcterms:W3CDTF">2007-04-25T14:06:52Z</dcterms:modified>
  <cp:revision>4</cp:revision>
  <dc:subject/>
  <dc:title>PowerPoint Presentation</dc:title>
</cp:coreProperties>
</file>